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A83-F5FB-4AC0-ABFA-09D87AC1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087-6424-4D9E-ABC4-251B4842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068-8FFE-47E9-B1EC-BBAB0DB2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293-D1B6-42D6-B052-3F9B9112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6025-75A4-40BB-BDC5-87AAD486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5E91-C80A-4428-9B61-B1B0800D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31D4-C761-4555-8488-7F43521F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39D4-1758-4371-AB92-964D0C1E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4C17-43DD-46D4-B4E2-3C379E86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49B9-DD41-460D-AF68-A1A97FB3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4EC2-69E8-4482-93E2-80D7992A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CEE-99DD-4FAE-993A-F1944516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5A73-309C-4BB7-87DD-2989D26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CD76-3BAF-40A0-A1C9-7C5A999A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BFF1-8FBA-4147-A3C8-A0F37AB4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9828-0483-43CD-8B06-80A8D511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3128-422D-44CB-82B1-507B62AD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68B-5861-4E99-8445-223E17EF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B2B-A58A-4EAF-A748-45AEBDBF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C2F-14BA-4263-A978-15FA8F44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BB1-36E0-425E-BE17-F1EA76AC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FC3-75F1-44F4-BC86-D1E7CD19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DBA-01D2-44A7-9D3B-E7C51EEF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51F-3B87-4AE0-A7EC-42E46E4E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B899-4B72-4C30-ADFC-E1363CE31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F48A-9921-4915-A148-F492DBFC4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df.kg.ac.y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036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нергетски аспекти метаболизма хранљивих материја</a:t>
            </a:r>
            <a:br>
              <a:rPr sz="34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ређивање енергетске потрошње организма и енергетска потрошња у базалним условима</a:t>
            </a:r>
            <a:br>
              <a:rPr sz="2400"/>
            </a:b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ређивање вредности базалног метабол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084720" y="5363280"/>
            <a:ext cx="295128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едра за физиолог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ЖБ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2700360" y="3889440"/>
            <a:ext cx="3281400" cy="2968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395280" y="26028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ултет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дицинск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 нау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 Крагује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Е СТРУКОВНЕ СТУДИЈ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0840" y="0"/>
            <a:ext cx="10731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8600" y="1125360"/>
          <a:ext cx="8915400" cy="4496040"/>
        </p:xfrm>
        <a:graphic>
          <a:graphicData uri="http://schemas.openxmlformats.org/drawingml/2006/table">
            <a:tbl>
              <a:tblPr/>
              <a:tblGrid>
                <a:gridCol w="2666880"/>
                <a:gridCol w="3276720"/>
                <a:gridCol w="1752480"/>
                <a:gridCol w="121932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ИЈСКИ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OE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ЦИЈЕН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АНЉИВИХ МА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ЈА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g (kcal-kJ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cal-kJ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L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ЉЕНИ ХИДР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7.1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.9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.7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НЧЕВ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 kcal (17.1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 kcal (22.2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.3 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ШОВИТА ИЗБАЛАНСИРАНА ИСХ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25 k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.2kJ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35"/>
          <p:cNvSpPr/>
          <p:nvPr/>
        </p:nvSpPr>
        <p:spPr>
          <a:xfrm>
            <a:off x="0" y="5877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*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теини се у људском организму не разлажу до коначних продуката (већ само до уре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ЂИВАЊЕ УКУПНИХ ЕНЕРГЕТСКИХ ПОТРЕБ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ЕТ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сновне метаболичке потребе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(Basal Metabolic Rate – BMR)</a:t>
            </a:r>
            <a:r>
              <a:rPr b="1" lang="sr-C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нергетске потребе у мировањ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(Resting Metabolic Rate – RM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додат енергетски промет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 Енергетск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ермичк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фека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ране или специфично дејство хране (СД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2060"/>
                </a:solidFill>
                <a:latin typeface="Arial"/>
              </a:rPr>
              <a:t>(Thermic Effect of Food – TE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 Обављање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азални метеболиз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еф.) – минимална количина енергије потребна за одржавање основних функција организма.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нзитета базалног метаболизм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M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ши се 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едећим услов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3212640"/>
            <a:ext cx="8540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мперату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аздуха у просторији мора бити пријат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ahom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питаник не сме да једе најмање 12 час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питивање се врши после добро проспаване ноћ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питаник не сме да обавља тежи физички рад најмање 1 сат пре мер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физички и психички фактори који могу да узрокују узбуђење испитаника се морају одстранити из окруж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835280" y="11592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БАЗАЛНИ МЕТАБОЛИ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</a:t>
            </a:r>
            <a:r>
              <a:rPr b="1" lang="sr-C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ње</a:t>
            </a:r>
            <a:r>
              <a:rPr b="1" lang="sr-Latn-C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нзитета</a:t>
            </a:r>
            <a:r>
              <a:rPr b="1" lang="sr-Latn-C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BM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R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cal/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/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= </a:t>
            </a:r>
            <a:r>
              <a:rPr b="1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n-US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1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ili kcal /L</a:t>
            </a:r>
            <a:r>
              <a:rPr b="1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x v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O</a:t>
            </a:r>
            <a:r>
              <a:rPr b="1" lang="sr-Latn-CS" sz="26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/</a:t>
            </a:r>
            <a:r>
              <a:rPr b="1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 (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ешовит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ану исхра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825 kcal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ошња кисеоника за 1 ча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а површина (израчунава се по формули и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тава из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мограм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инимална количина енергије потребна за одржавање основних функција организма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један да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се израчуна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R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cal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32400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ОГ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492360" y="0"/>
            <a:ext cx="5642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ЛНОГ МЕТАБОЛ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3640" y="2204640"/>
            <a:ext cx="5032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– 160 (k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/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 – 38 (k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/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ушкар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 – 170 (k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/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– 42 (k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/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Израчунавањ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енергетских потреба у мировању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3200"/>
            </a:b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cc3300"/>
                </a:solidFill>
                <a:latin typeface="Times New Roman"/>
              </a:rPr>
              <a:t>(Resting Metabolic Rate – RM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640" y="2852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Дневне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нергетске потребе у мировању</a:t>
            </a:r>
            <a:r>
              <a:rPr b="0" lang="sr-Latn-CS" sz="2700" spc="-1" strike="noStrike">
                <a:solidFill>
                  <a:srgbClr val="000000"/>
                </a:solidFill>
                <a:latin typeface="Times New Roman"/>
              </a:rPr>
              <a:t> (RMR)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 се израчунавају по формули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Times New Roman"/>
              </a:rPr>
              <a:t>RMR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 TM(kg) x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x 24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(за мушкарце), 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Times New Roman"/>
              </a:rPr>
              <a:t>RMR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 TM(kg) x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</a:rPr>
              <a:t>0.9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x 24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(за жене), и изражавају у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c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ФАКТОРИ КОЈИ УТИЧУ НА ВРЕДНОСТ БАЗАЛНОГ МЕТАБОЛИЗ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а до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старењем се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ању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нзитет базалног метаболиз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ски стат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а симпатику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имулација симпатикуса доводи до повећаног разлагања гликогена и масти и так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већа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дукцију енерг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вањ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ању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интензитет базалног метаболизма з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а (у екстремним климатским условима се интензитет базалног метаболизм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ећа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бог додатне енергије потребне за терморегулациј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храњеност (интензитет базалног метаболизма се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ећа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бог компензовања енергетског дефици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rDij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ски стату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 тиреоидеје повећавају и до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тет базалног метабол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ју интензитет базалног метаболизм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 раста повећава интензитет базалног метаболиз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-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560" y="691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хране уносимо у организам бројне материје које у својој основи представљају енергетск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НЧЕВ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им метаболисањем хранљивих материја у организму настај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зо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и значај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ина енергиј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тет базалног метаболизма се повећава и код следећих поремећаја здрављ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90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зни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е температуре 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ко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које узрокују повећану активност појединих ћелија и тки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ни тумор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иј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а инсуфицијенциј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ња дисајних путе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42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 материје и енер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болизам – утрошак енер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болизам – ослобађање енер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6760" y="713880"/>
            <a:ext cx="85726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укупне количине ослобођене хемијске енерг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50%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ах прелази у топло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70%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претвара у елементе фосфагеног система 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енергетски богатих једињења: 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реатин-фосф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се депонује у виду енергетских резерви (гликоген, триглицериди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коначног преласка метаболич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ергије у топлот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тет метаболиз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осно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нергетски промет у организму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цењује се на основу количине ослобођене топлоте и изражава се у топлотним јединиц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Е КОЈЕ СЕ КОРИСТЕ У МЕРЕЊУ ЕНЕРГЕТСКОГ МЕТАБОЛИЗ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227628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народни мерни систе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) – Džul (J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одговара енергији утрошеној за померање једног килограма за један метар снагом о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чешће користи калорија -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која представља количину топлотне енергије потребну да се 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загреје з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4e5b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kcal = 1000 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4e5b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kcal = 4.184 k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ЈСКИ КОЕФИЦИЈЕНТ ХРАНЉИВИХ МАТЕРИЈ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м угљених хидра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kcal (17.1k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м липи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3 kcal (38.9k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м проте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400" spc="-1" strike="noStrike" baseline="30000">
                <a:solidFill>
                  <a:srgbClr val="cc3300"/>
                </a:solidFill>
                <a:latin typeface="Wingdings 2"/>
                <a:ea typeface="Wingdings 2"/>
              </a:rPr>
              <a:t>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kcal (17.1 kJ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3 kcal (22.2k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baseline="30000">
                <a:solidFill>
                  <a:srgbClr val="cc3300"/>
                </a:solidFill>
                <a:latin typeface="Wingdings 2"/>
                <a:ea typeface="Wingdings 2"/>
              </a:rPr>
              <a:t></a:t>
            </a:r>
            <a:r>
              <a:rPr b="1" lang="sr-C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 се у људском организму не разлажу до коначних продуката (већ само до уре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 ЕНЕРГЕТСКЕ ПОТРОШЊЕ У ОРГАНИЗ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2438280"/>
            <a:ext cx="854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МЕТ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ПЛОТНИ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ВИВАЛЕНТ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K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ЕОНИК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ина топлоте ослобођена потпуном оксидацијом неке материје при утрошку 1 литра кисео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kcal (21 kJ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 kcal (19.7 kJ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нчеви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6 kcal (19.3 kJ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ешовит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ну исхран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825 kcal (20.2 kJ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51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ЦИЈСКИ КОЛИЧНИК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Q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720" y="119664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Q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372360" y="981000"/>
            <a:ext cx="2438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ol. CO</a:t>
            </a:r>
            <a:r>
              <a:rPr b="1" lang="sr-Latn-CS" sz="36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. O</a:t>
            </a:r>
            <a:r>
              <a:rPr b="1" lang="sr-Latn-C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09480" y="2362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ДНОСТИ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R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0880" y="3124080"/>
            <a:ext cx="8541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нчев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вита, избалансирана исхр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8:38:47Z</dcterms:created>
  <dc:creator>Maja</dc:creator>
  <dc:description/>
  <dc:language>en-US</dc:language>
  <cp:lastModifiedBy>User</cp:lastModifiedBy>
  <dcterms:modified xsi:type="dcterms:W3CDTF">2014-10-01T14:46:43Z</dcterms:modified>
  <cp:revision>51</cp:revision>
  <dc:subject/>
  <dc:title>Енергетски метаболизам и физиологија исхране</dc:title>
</cp:coreProperties>
</file>